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2E8-C3A4-4774-8AC9-5003CB9F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032-9B48-4A6C-A8B9-B62A072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0C7-C2B0-4DB3-9CB4-69D33C55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25E-C7E8-48EA-AD2C-0AC13917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400-EB7E-49DC-989C-AD218B7E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8E07-CC6A-49DD-B3A6-6A9BFC4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9D2D-3F9D-4525-8E7E-1C2D5BE6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AE2C-081B-4886-9E05-08706CE1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F6B-18B5-488C-82D0-B7573262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C63-0CA8-4AE6-AF75-E4C60A9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B43F-FA63-463D-B27D-F922318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99F-2B03-44E3-A02A-F7D1A13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923-10B8-4E83-A26E-FB18FF9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A3B7-DDA4-4BCB-B100-2EF3108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7027-1C85-4BCE-AF23-1D871DD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49B6-769B-4DE8-BD8C-7D881E00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35F-C387-459C-BAF8-C494DAA9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662-A365-4A09-8B4A-D24E3FE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C88-1217-4469-BC16-F5B5E66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FB1-1032-472E-8B5A-F7E8CDA9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636-C8DC-4FD4-A991-EC8A0C1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01B-68D0-4D61-9C7E-BB1E7AA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6EF-98E9-44B0-9886-B1D4B24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958-036B-40F4-BE4C-E4945C2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2D1-3713-45F3-A8A6-6A202D6E4D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2AE2-C4CC-45B1-8FC6-4B0F18A0E2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‘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Take the Chance’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Literacy &amp; Numeracy Initiative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The scale and nature of the problem</a:t>
            </a: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2130120"/>
            <a:ext cx="73134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Nationally- up to 800,000 (23%) adults appear to have low literacy/numeracy skil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500,000 assess their own skills as poor or moder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ffecting approx 20,000 adults in the Falkirk are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6000" y="765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earing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rmingham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hibition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£8.50, £10.00, £1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03280" y="4046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‘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Take the Chanc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341360"/>
            <a:ext cx="8534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th Valley Marketing &amp; Publicity campaign to attract potential learners into literacy programmes (in partnership with different agencies/organisations (Clacks, Falkirk &amp; Stir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fferent mediums used: paper-based posters &amp; leaflets, coasters, prompt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s and radio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Literacy &amp; Numeracy Initiati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84464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ottish Executive have allocated £18.5 million to local authorities via CLSP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nies to be targeted at ‘priority group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Peopl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ho live in ‘disadvantaged’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n low skill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on low incom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health problems and disabilities affecting their learning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Unemployed and workers facing redundan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nglish is not first langu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ith limited education (particularly young adul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76280"/>
            <a:ext cx="56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Comic Sans MS"/>
              </a:rPr>
              <a:t>Priority group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ere AP-ALN provision is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Implementing Framework of provis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ntry pathways/Exit pathwa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Initial 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Vocabulary: ‘learning goal’/’ILP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ecording/progress materials  - ‘Distance travelled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Guidance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Developing Core provision: different learning options; Matching students to appropriate provi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Short courses/Supported lear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 major effort to engage a broad range of people in workplaces and communities as ‘spotters’, ‘referrers’ and ‘supporters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viding awareness raising/training for ‘front line’ staff (range of agencies) who are potential spotters &amp; referr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20640"/>
            <a:ext cx="895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Roles for people in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orkplaces and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12536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Take the Ch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349360"/>
            <a:ext cx="8076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livering everyday skills for everyda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ree phone:0800 587 28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6:01:28Z</dcterms:created>
  <dc:creator>LaurieLee Miller</dc:creator>
  <dc:description/>
  <dc:language>en-US</dc:language>
  <cp:lastModifiedBy>falkirk council</cp:lastModifiedBy>
  <dcterms:modified xsi:type="dcterms:W3CDTF">2004-05-26T09:28:17Z</dcterms:modified>
  <cp:revision>33</cp:revision>
  <dc:subject/>
  <dc:title>Adult Literacy and Numeracy in Scotland Report </dc:title>
</cp:coreProperties>
</file>